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D6311-573F-4E6A-AF82-3BD6D3F514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824B0-07F4-4D6A-8E14-6E6A0FCEC4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B0FDF-9B5D-482C-A24B-6DFE1D528C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92094-14D3-4900-9F0B-22883926A7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28ADD-C882-489F-89D6-ADC125B281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E9497-A445-422C-A16A-44D41E4F37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1C35E-99E2-41F2-8DF2-79F9A85F88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665CE-3878-4454-B607-B1E016BD86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4C897-1223-4103-8915-CF37754EE8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17C84-25B4-417D-A213-3E9587A19F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420FD-6A3A-4FFB-801C-443D7937B6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436A6-796D-4D37-88CE-6706E19FD8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7262" t="6352" r="10487" b="3395"/>
          <a:stretch/>
        </p:blipFill>
        <p:spPr>
          <a:xfrm>
            <a:off x="685800" y="1219320"/>
            <a:ext cx="7772400" cy="54100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0" b="54366"/>
          <a:stretch/>
        </p:blipFill>
        <p:spPr>
          <a:xfrm>
            <a:off x="2495520" y="434880"/>
            <a:ext cx="6191280" cy="4032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668160" y="284040"/>
            <a:ext cx="1541520" cy="47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752480"/>
            <a:ext cx="8226360" cy="0"/>
          </a:xfrm>
          <a:prstGeom prst="line">
            <a:avLst/>
          </a:prstGeom>
          <a:ln w="38160">
            <a:solidFill>
              <a:srgbClr val="ff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4771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 OCP-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6AAB-0DC5-4D40-B32D-006383218E3D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0" t="5707" r="0" b="0"/>
          <a:stretch/>
        </p:blipFill>
        <p:spPr>
          <a:xfrm>
            <a:off x="457200" y="2209680"/>
            <a:ext cx="8305920" cy="4267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2038320"/>
            <a:ext cx="8318520" cy="182520"/>
          </a:xfrm>
          <a:prstGeom prst="rect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2889000" cy="89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rcRect l="0" t="0" r="0" b="76113"/>
          <a:stretch/>
        </p:blipFill>
        <p:spPr>
          <a:xfrm>
            <a:off x="609480" y="1676520"/>
            <a:ext cx="8247240" cy="280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5049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629400"/>
            <a:ext cx="838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OCP-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CP-IP SLD WG Outp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191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542200" y="1884240"/>
            <a:ext cx="3165120" cy="103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ff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egular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eatures constantly add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ackward compatibility maintain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upport for OCP-IP deliver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Already planning future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54435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3341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3: 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4267080"/>
            <a:ext cx="75960" cy="1067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4267080"/>
            <a:ext cx="30492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55627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t 2003: 1.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2895480"/>
            <a:ext cx="76176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362320"/>
            <a:ext cx="12348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c 2003: OCP 2.0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057040" y="2971800"/>
            <a:ext cx="228600" cy="11430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205740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1 &amp; Adapt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4267080"/>
            <a:ext cx="304920" cy="1676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60199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4267080"/>
            <a:ext cx="15228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510552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g 2004: Monito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4267080"/>
            <a:ext cx="228600" cy="13716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571500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5: OCP 2.1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504960" y="3276720"/>
            <a:ext cx="75960" cy="9144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274320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4: 2.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2666880"/>
            <a:ext cx="99072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1981080"/>
            <a:ext cx="18288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5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1 &amp; Example Package Relea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5791320"/>
            <a:ext cx="1295280" cy="7635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rch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 &amp; TL3 Channel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171840" y="4267080"/>
            <a:ext cx="60948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3124080"/>
            <a:ext cx="11430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ril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3581280"/>
            <a:ext cx="380880" cy="533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510552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y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eck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4267080"/>
            <a:ext cx="22860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3276720"/>
            <a:ext cx="121896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3733920"/>
            <a:ext cx="152280" cy="3808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E4F77-A7DA-4FD5-807F-DB9ADC56DE7F}" type="slidenum">
              <a:t>1</a:t>
            </a:fld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8:53:25Z</dcterms:created>
  <dc:creator>OCP-IP Administration</dc:creator>
  <dc:description/>
  <dc:language>en-US</dc:language>
  <cp:lastModifiedBy>aluukinen</cp:lastModifiedBy>
  <dcterms:modified xsi:type="dcterms:W3CDTF">2006-10-31T18:52:52Z</dcterms:modified>
  <cp:revision>168</cp:revision>
  <dc:subject/>
  <dc:title>OCP-IP Introductory Presentation</dc:title>
</cp:coreProperties>
</file>